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27E2-0AA7-4E3C-AF7C-4F7437335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6940-A6BA-4E48-A9B6-8ECA8EE763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1922-93EB-44F2-8FEC-001E3743DB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7D2C-BB3E-4BFF-9B96-3EA010DEED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DC4-CF6A-48D8-BD4A-68695C7641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23D8-5548-4BE1-BE3D-FA24AF57CE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57C9-4945-4DCE-AA6B-4454336F64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8B30-BCCF-42C4-9D7E-2C78851076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93B5-9542-48C8-B9A9-5426D3F7CE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63B6-7FF5-43ED-B6D2-6DA10C401C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5F37-D0D1-48BC-9971-AA294F71F0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5A2-7B2D-447D-A488-10FE8AF056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4758-8F34-4C1C-873C-3DC9E02D4C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1054-ADED-48DF-ABCE-2EBD677807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49B8-8845-4798-87E4-03CB3C3252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7684-EBEF-4C5A-82EA-042A2279F4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E93B-3599-4A80-A8D7-C1A9E4C1B2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B951-58D2-400C-B93E-6D17F2820E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363-1819-4BDF-82FE-19B375E860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916-DC8C-4492-A662-1563E20A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9B2-4289-4749-A2D5-2B324E65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E9D-9CE3-46DB-9F91-296B22AA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F6A-8A7C-4B81-8CFF-EE226314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D552-5149-4B6E-AAB5-EA697526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18E9-D2C5-4AF0-8440-6B067FBD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8CC7-0B6D-48FD-8716-395C69C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D006-1C93-433A-8E75-36E5BDA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7728-9ACA-490A-BD2D-FD84577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43A4-2A91-404A-8899-CA38C651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554-BC96-4F8F-B257-34183B18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236-8CD3-4A32-B945-4C5BBBD0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935F-23C6-4652-83D1-13A323C2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BE75-71FD-4DE3-8C32-7CC39810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2C5A-2D30-4B61-9415-767D21E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D202-0A4E-4ECB-BBE1-4B6D372F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F197-E312-4FF3-AE64-F385A08A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6C27-6917-4D7B-943D-D620E0C6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2C8C-32C6-40F5-8EDA-9170CB7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E498-FBF1-43A1-8F6A-822B812C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9F75-7CC9-437D-941F-BA47C14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BC59-A67E-4BD3-B03A-88A752F4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8C3-445D-4C7A-9769-9A705B07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5EAD-1528-4548-B6FF-E674AE97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7140-F454-454A-B724-DAC52E53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B15D-3508-4F96-901B-ED2CE39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8F99-4E85-4C81-9273-9DBA3924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93A6-B04B-4DF8-A3D2-84FF85AE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3DE0-F722-438A-BAB8-827CF70A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C329-B1A5-4322-A892-FA8897AD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30E22-238C-42C2-A97F-BA7055A6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503A-8C9A-4BBA-BE97-0F94D39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1A39-B1D1-484B-814C-9C325A22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E2D-2B6B-4087-B397-0D2F05E0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54EE-F455-4854-B2A9-C89B1B32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A67C-2DBA-4D15-9FDC-E5DF016E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4083-09B0-4786-944E-2982C334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0C14-52DD-420E-8FA4-1B87E1E0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656B-2226-4C25-B368-53021A74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98D4-2DE0-404B-BDF8-C70EA0B6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D90AC-6A7B-470D-B7A7-B2FF4339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2CDD-08BE-4642-BBD1-2E2CCF1C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5564-7D7C-469E-ADD7-F0A52338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6919-5932-4AF0-BDB5-B14386BF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081-2851-45D5-B057-9BFA6427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C5D3-1360-48A0-9D9F-786BE69A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1FED-6AD7-4341-9411-EE9D9FEC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3B5D-23E6-4200-8733-56C39F18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39C9-B581-4A42-A340-7241F888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3CB3D-EE15-4B74-92D8-43B1740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0E63-17FB-4B6F-A610-4DC7B31C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DFD0-B869-4820-8B42-566B82C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F011-8EDB-483C-8C88-B252060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60788-0369-432A-814F-3DAE23DD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4153F-C204-4DE6-8D2E-4A41D778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AFE-E9FC-4AB5-81C9-F061E12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68160-B6D8-474A-9FEE-6E40F842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22797-288A-4165-A48B-97E08CF7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85E29-F9A6-41C5-9C88-CCEED35F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EBFA-C960-41F9-8365-15A20C6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62D1-6FAC-4747-BC4F-BF8A8479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626E2-481F-43D3-9BB8-17BC2147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8D82C-2558-42D8-86B5-2AD804DD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41CD5-C3F8-434B-AA79-E54F95D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5E30-8391-45B4-89BB-BA40E205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C3EE-4846-4258-AB0B-188854C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DD5-8D9E-4CD6-A464-F3ED8914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257DD-47C8-4DAE-8F60-ACF4C766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F931-7215-4605-9FCE-676A80F9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5D82-6A52-4B3E-894F-9F819E3E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F8E30-AA38-422A-A6EB-6572AB4F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C3DAA-B7BB-44C6-941C-A7BD7514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6C839-A2FC-4967-B19D-8C966D73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91A1-F3B9-41A7-90F9-040994C8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EAC52-EFDC-47A8-80EB-41278F44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AB94C-7133-4E7C-AA06-2B123591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A6352-957E-40FA-B941-8137E5F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163-FB03-459B-B902-CBA31A13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6D80-C763-4831-8339-37625863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F00C0-5686-4253-A81C-0EAA1773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C3763-B04B-44BA-B856-1C6A8E78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F1CC-3B0F-4996-847D-ADA9EB47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37F0-D642-450C-9907-76DBCC2B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09C-A51C-4D37-8A6C-C1725CA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F36-4FE9-4E9A-85C8-81446ACC063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89FF-76C7-4A43-918A-1BEB875B361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53F-9C84-4774-A1C5-0421D370C05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F08D-8D1C-4E2C-BB83-93D8175D1C7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CC7D-1C86-443C-83CE-6E012F7FF0C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86B0-92C1-4D8C-AAB2-488E809A37F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8A99-76EE-4EC7-A51B-7687C7DBDE7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rs Cathe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dd Color to a Specific Obje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Quick selection to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specific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ke a layer—Right Click Selection—Layer via cop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 color of object—fill c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11160" indent="-514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1116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mage—Adj—Hue and Saturation—Coloriz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1116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saturate or Remove Col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age—Adjust—Desatur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eraser to remove filter from one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rase to histo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erspective Cro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s is to straighten out picture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at are taken at an ang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op To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Clear at top Righ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area to kee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perspective on toolbar on the top righ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elect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ss en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eystone Effe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ew Layer via copy (Ctrl 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ew—show grid or Ctrl ‘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F for full scre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—Free Transfor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LD DOWN CTRL AND ADJU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ss en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eather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3" name="Content Placeholder 2" descr=""/>
          <p:cNvPicPr/>
          <p:nvPr/>
        </p:nvPicPr>
        <p:blipFill>
          <a:blip r:embed="rId1"/>
          <a:stretch/>
        </p:blipFill>
        <p:spPr>
          <a:xfrm>
            <a:off x="865080" y="1316160"/>
            <a:ext cx="8059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urn To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Lollipop—Select H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just settings at the to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and drag area to b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ilter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09480" y="1784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ters stack on top of each oth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vert  to Smart Filters (makes a filter a layer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ter Galle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pp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hange Color Mod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2 p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rrange to see bo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 index or jpeg  Image—Mode—RG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b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*Gif cannot go to JpE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PEG 16 Million Col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IF 200 Colors*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utomate Scan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utom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op and straigh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mage Adjustm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L=Image      Adjust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evels Dialog Bo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stogram comes up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ook for flat line and start there to drag toward the histogra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9" name="Straight Arrow Connector 4"/>
          <p:cNvCxnSpPr/>
          <p:nvPr/>
        </p:nvCxnSpPr>
        <p:spPr>
          <a:xfrm>
            <a:off x="3048120" y="1905120"/>
            <a:ext cx="30528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ixing Wrinkles and Scratch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ealing Brush Butt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looks like a band ai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aling Brush is more selective so you have to “alt click” on the point to be duplica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pot Healing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–top left brush size adj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and drag over bad spo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order Around A Pict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-Select all or Ctrl A (then marching ant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Modify Border to chose border wid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—fill and choose foreground or background (can choose pattern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D to desel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ke a New Lay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yer—New Lay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J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Shift 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dd Styles to An Obje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914400" y="1784520"/>
          <a:ext cx="7772400" cy="2482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ayer th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ayer sty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ayer Panel—fx but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bl click on lay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24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p: To get to styles dialog box you must click the words, to select a style you must click the word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turn to Last Saved Ima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e—Rever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Zoo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+  zoom 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-  zoom 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dd Color Tone to a Pict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age—Adjust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hoto Fil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age Adjust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ue and satur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Colorize and Adju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1:32:00Z</dcterms:created>
  <dc:creator>sherri.cathey</dc:creator>
  <dc:description/>
  <dc:language>en-US</dc:language>
  <cp:lastModifiedBy>sherri.cathey</cp:lastModifiedBy>
  <dcterms:modified xsi:type="dcterms:W3CDTF">2009-09-29T14:39:03Z</dcterms:modified>
  <cp:revision>13</cp:revision>
  <dc:subject/>
  <dc:title>Photoshop Step-by-Steps</dc:title>
</cp:coreProperties>
</file>